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2438280"/>
            <a:ext cx="7010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Of Mice and Me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306864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y John Steinbec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Killing another human being is intolerable, and should be punished.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Running away from a crime is never acceptable.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Tally responses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and put into a graph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Journal = individual reflection of responses &amp; group discussions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lements of Storytell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ot – the related series of events that make up a sto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imax – the turning point in the story; emotional high point for the charact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flict – the struggle(s) between opposing forces, usually charact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aracter – the individuals involved in the action of the sto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tting – the time and place, or where and when, the action occu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oint of view – the perspective from which a story is to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me – the main idea behind a literary work; the message in the sto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ve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type of literary work which is lengthy (generally between 100-500 page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ses all the elements of storytell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Diagram 6"/>
          <p:cNvGrpSpPr/>
          <p:nvPr/>
        </p:nvGrpSpPr>
        <p:grpSpPr>
          <a:xfrm>
            <a:off x="1079640" y="244440"/>
            <a:ext cx="7212960" cy="5873040"/>
            <a:chOff x="1079640" y="244440"/>
            <a:chExt cx="7212960" cy="5873040"/>
          </a:xfrm>
        </p:grpSpPr>
        <p:sp>
          <p:nvSpPr>
            <p:cNvPr id="107" name="_s1028"/>
            <p:cNvSpPr/>
            <p:nvPr/>
          </p:nvSpPr>
          <p:spPr>
            <a:xfrm flipH="1" flipV="1">
              <a:off x="3247200" y="2344680"/>
              <a:ext cx="723240" cy="47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29"/>
            <p:cNvSpPr/>
            <p:nvPr/>
          </p:nvSpPr>
          <p:spPr>
            <a:xfrm>
              <a:off x="1612080" y="1103760"/>
              <a:ext cx="1837080" cy="1524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0"/>
            <p:cNvSpPr/>
            <p:nvPr/>
          </p:nvSpPr>
          <p:spPr>
            <a:xfrm flipH="1">
              <a:off x="2895480" y="3462840"/>
              <a:ext cx="899280" cy="17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1079640" y="3040200"/>
              <a:ext cx="1837080" cy="152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 flipH="1">
              <a:off x="3892320" y="3978360"/>
              <a:ext cx="396360" cy="69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2571120" y="4592880"/>
              <a:ext cx="1836720" cy="1524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5085000" y="3978360"/>
              <a:ext cx="400680" cy="68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5"/>
            <p:cNvSpPr/>
            <p:nvPr/>
          </p:nvSpPr>
          <p:spPr>
            <a:xfrm>
              <a:off x="4964040" y="4592880"/>
              <a:ext cx="1836720" cy="1524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6"/>
            <p:cNvSpPr/>
            <p:nvPr/>
          </p:nvSpPr>
          <p:spPr>
            <a:xfrm>
              <a:off x="5578920" y="3462840"/>
              <a:ext cx="89928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6455520" y="3040200"/>
              <a:ext cx="1837080" cy="152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 flipV="1">
              <a:off x="5402880" y="2342520"/>
              <a:ext cx="718920" cy="47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5922720" y="1105200"/>
              <a:ext cx="1837080" cy="1524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0"/>
            <p:cNvSpPr/>
            <p:nvPr/>
          </p:nvSpPr>
          <p:spPr>
            <a:xfrm flipV="1">
              <a:off x="4686120" y="1769040"/>
              <a:ext cx="0" cy="76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3767760" y="244440"/>
              <a:ext cx="1836720" cy="1524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42"/>
            <p:cNvSpPr/>
            <p:nvPr/>
          </p:nvSpPr>
          <p:spPr>
            <a:xfrm>
              <a:off x="3767760" y="2533320"/>
              <a:ext cx="1836720" cy="1524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te-Taking &amp; Summariz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k yourself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ere is this taking place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happened before this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o are the characters involve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do I NOT understan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do I need to re-rea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do I need to ask my teacher to clarify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te-Taking &amp; Summariz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will happen next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effect will this have on the character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effect will this have on the plot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te-Taking &amp; Summariz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ne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y to relate to characters or events in 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ve you ever encountered a similar situation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w did you handle the situation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ve you ever known a person like any of the characters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oes this remind you of any other stories you have read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te-Taking &amp; Summariz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your own words, break down the most important information, details, events in the order they happened in the story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uthor Biograph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now the name of the author of “Of Mice and Men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plain 2 details of John Steinbeck’s personal lif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ist 3 books that were written by John Steinbec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cribe some of the qualities in                         John Steinbeck's no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1" name="Picture 5" descr="John Steinbeck"/>
          <p:cNvPicPr/>
          <p:nvPr/>
        </p:nvPicPr>
        <p:blipFill>
          <a:blip r:embed="rId1"/>
          <a:stretch/>
        </p:blipFill>
        <p:spPr>
          <a:xfrm>
            <a:off x="6477120" y="3276720"/>
            <a:ext cx="2208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ote-Taking &amp; Summariz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fle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y I am reading thi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have you learned so far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do you think is the them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 you like the story?  Why or why not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1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view vocabulary terms &amp; definitions for Chapter 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Chapter 1 (p. 1-16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l in note-taking &amp; summarizing for Chapter 1 (packet p. 12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1 ~ Dialogu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arning Targe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Know the meaning of the term dialogu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derstand the differences between dialogue form and narrative for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cket p. 13-1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packet p. 13-14 (dialogue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cabulary practice packet p. 15 using context clues Chapter 1 ter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view notes ~ Quiz tomorrow ~ chapter 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iz – chapter 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rrect Quiz &amp; Discu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apter 2 – write definitions for vocabulary ter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o over Chapter 2 vocabulary defini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Chapter 2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l in Note-taking &amp; Summarizing packet p. 1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2 ~ Analyzing Poet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arning Targe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familiarize myself with translating poetry into familiar language to aide in comprehens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familiarize myself with using translated poetry to understand meaning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cket p. 17-18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packet p. 17-18 (analyzing poetry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cabulary practice packet p. 19 using vocabulary in context Chapter 2 ter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view notes ~ Quiz tomorrow ~ chapter 2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cabulary definitions chapter 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Quiz – chapter 2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rrect Quiz &amp; Discu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egin Chapter 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o over Chapter 3 vocabulary defini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Chapter 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l in Note-taking &amp; Summarizing packet p. 2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uthor Biograph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questions on packet p. 6 aloud togeth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Author Biography p. 5 aloud togeth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 reading use highlighter to highlight information needed to answer ques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finished reading/highlighting, write answers to ques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view &amp; Discu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hapter 3 ~ Recognizing Vivid Detail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ecome familiar with details in writings that develop moo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plain how details can help to create understanding of tex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cket p. 2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packet p. 21 (vivid detail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cabulary practice packet p. 22 synonyms &amp; antonyms Chapter 3 ter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view notes ~ Quiz tomorrow ~ chapter 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y Vocab ~ Quiz tomorrow ~ Chapters 1-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o over Chapter 4 vocabulary definitions &amp; write definitions in cla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Chapter 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l in Note-taking &amp; Summarizing packet p. 2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4 ~ Conflict &amp; Effec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verbally state the meaning of conflic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list and explain the 3 common types of conflic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iven a conflict from the story, I will state the type of conflict given and explain the effect for the conflict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cket p. 2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packet p. 25 (conflict &amp; effect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cabulary practice packet p. 26 Chapter 4 ter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view notes ~ Quiz tomorrow ~ chapter 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rite definitions – vocab list chapter 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o over Chapter 5 vocabulary defini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Chapter 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l in Note-taking &amp; Summarizing packet p. 27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5 ~ Character Typ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explain the difference between protagonist and antagonist in literatur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list and explain the 4 different types of character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identify if the author uses direct or indirect characterizat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cket p. 28-29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packet p. 28-29 (character type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cabulary practice packet p. 30 analogies Chapter 5 ter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rite vocabulary definitions ~ chapter 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o over Chapter 6 vocabulary defini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ad Chapter 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l in Note-taking &amp; Summarizing packet p. 3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hapter 6 ~ Them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give examples of themes from familiar work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will create a theme for the novel “Of Mice &amp; Men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cket p. 32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Before Reading column mar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es = I agre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= I disagre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? = I don’t know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plete packet p. 32 (theme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ocabulary practice packet p. 33 Vocabulary in Context Chapter 6 ter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view notes ~ Quiz tomorrow ~ chapter 5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y Vocab ~ Quiz tomorrow ~ Chapters 4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Having friends fulfills our basic human needs.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Mentally impaired people are worthless, and cannot function like “regular” people.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People who are strong know their strength, and how much they can hurt other people if they wanted to.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It is unnatural for people to have an attachment to, or feelings for, an animal.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The purpose of life is to strive for, and eventually reach, our goals and dreams.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4:38:00Z</dcterms:created>
  <dc:creator>Baltic School District</dc:creator>
  <dc:description/>
  <dc:language>en-US</dc:language>
  <cp:lastModifiedBy>Angie McCall</cp:lastModifiedBy>
  <dcterms:modified xsi:type="dcterms:W3CDTF">2012-11-21T15:40:24Z</dcterms:modified>
  <cp:revision>23</cp:revision>
  <dc:subject/>
  <dc:title>Of Mice and M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